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663-7D50-4AFF-ADDC-F0614F40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F4E-8570-4D01-A59B-7BA4210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725-F239-445A-89C4-3B0A4241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51E-A14A-41E7-B710-6E814C09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575-8201-4329-B47A-8599DB9F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17F-9014-4071-9790-F90C0A6A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7F9-1C79-4C1F-9214-DFB9C289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5E7-F689-45B5-BD2B-87E5DAD7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88E-50A8-472B-A5BB-0A19494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DD2-F62C-4BEB-A338-CC2BBC6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7D8-96BC-45DA-BE03-C69F036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3E3-64A8-4BDF-AD35-87374284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4B2-6CD8-41F4-A64F-BE6B08FE18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04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5:26Z</dcterms:created>
  <dc:creator>harry doorn</dc:creator>
  <dc:description/>
  <dc:language>en-US</dc:language>
  <cp:lastModifiedBy>harry doorn</cp:lastModifiedBy>
  <dcterms:modified xsi:type="dcterms:W3CDTF">2010-05-05T05:40:22Z</dcterms:modified>
  <cp:revision>2</cp:revision>
  <dc:subject/>
  <dc:title>Slide 1</dc:title>
</cp:coreProperties>
</file>